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32.png" ContentType="image/png"/>
  <Override PartName="/ppt/media/image2.png" ContentType="image/png"/>
  <Override PartName="/ppt/media/image14.png" ContentType="image/png"/>
  <Override PartName="/ppt/media/image31.png" ContentType="image/png"/>
  <Override PartName="/ppt/media/image28.png" ContentType="image/png"/>
  <Override PartName="/ppt/media/image65.png" ContentType="image/png"/>
  <Override PartName="/ppt/media/image27.png" ContentType="image/png"/>
  <Override PartName="/ppt/media/image64.png" ContentType="image/png"/>
  <Override PartName="/ppt/media/image26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24.png" ContentType="image/png"/>
  <Override PartName="/ppt/media/image61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58.png" ContentType="image/png"/>
  <Override PartName="/ppt/media/image21.png" ContentType="image/png"/>
  <Override PartName="/ppt/media/image57.png" ContentType="image/png"/>
  <Override PartName="/ppt/media/image20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FDC9-F165-4354-B323-A90EC2050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E25E-53AC-4768-A656-85388CCA0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384F-1BD2-424E-9F63-267122E43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B2F2-DBA5-4408-BD4A-C4029CED6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A7F1-379E-4133-9707-143BC504C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5137-9F00-4A16-972A-0F91BC9F0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D930-375A-4F44-AEF0-FA5ACCC18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CE85-FF52-48E9-BCAB-E2B59CEB7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E1CC-2401-45AB-80EF-D8A175B4E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9E13-1B78-4F23-955D-EC7B671D9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7E81-42C9-4295-BB8C-56C16D5C0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C3A8-24B2-4BF7-A9D2-2E1EB9600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5C4E3-C9B8-4181-84A3-0CED17872E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1371600"/>
            <a:ext cx="76201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4618c6"/>
                </a:solidFill>
                <a:latin typeface="Times New Roman"/>
              </a:rPr>
              <a:t>CASE-CONTROL STUDIES</a:t>
            </a:r>
            <a:r>
              <a:rPr b="1" lang="en-US" sz="6000" spc="-1" strike="noStrike">
                <a:solidFill>
                  <a:srgbClr val="ffcc18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70102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066680" y="990720"/>
            <a:ext cx="70866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72388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31520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066680" y="60948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5438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5800" y="838080"/>
            <a:ext cx="77724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219320" y="762120"/>
            <a:ext cx="6858000" cy="10666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219320" y="2438280"/>
            <a:ext cx="2006640" cy="22100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200400" y="2438280"/>
            <a:ext cx="2743200" cy="22100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5943600" y="2514600"/>
            <a:ext cx="2286000" cy="2133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5"/>
          <a:stretch/>
        </p:blipFill>
        <p:spPr>
          <a:xfrm>
            <a:off x="2133720" y="4648320"/>
            <a:ext cx="4647960" cy="15238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6"/>
          <a:stretch/>
        </p:blipFill>
        <p:spPr>
          <a:xfrm>
            <a:off x="3200400" y="1828800"/>
            <a:ext cx="281952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066680" y="1905120"/>
            <a:ext cx="7086600" cy="20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23888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1629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23924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1629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066680" y="1143000"/>
            <a:ext cx="69343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914400" y="914400"/>
            <a:ext cx="7238880" cy="47242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219320" y="5638680"/>
            <a:ext cx="3733560" cy="4572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4952880" y="5638680"/>
            <a:ext cx="320040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14400" y="5638680"/>
            <a:ext cx="30492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3915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990720" y="1447920"/>
            <a:ext cx="7391160" cy="44956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990720" y="990720"/>
            <a:ext cx="196056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1f1d"/>
                </a:solidFill>
                <a:latin typeface="Times New Roman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5480" y="990720"/>
            <a:ext cx="5486400" cy="5331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752480" y="4724280"/>
            <a:ext cx="5105520" cy="11559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838080" y="609480"/>
            <a:ext cx="7315200" cy="41148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838080" y="4724280"/>
            <a:ext cx="99072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858000" y="4724280"/>
            <a:ext cx="121932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143000" y="1676520"/>
            <a:ext cx="6781680" cy="235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066680" y="914400"/>
            <a:ext cx="70866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143000" y="1219320"/>
            <a:ext cx="6934320" cy="23367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676520" y="3505320"/>
            <a:ext cx="6400800" cy="9144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1676520" y="4419720"/>
            <a:ext cx="6400800" cy="6858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143000" y="3505320"/>
            <a:ext cx="533520" cy="1600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1625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066680" y="1600200"/>
            <a:ext cx="71629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01064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143000" y="1219320"/>
            <a:ext cx="6934320" cy="44956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143000" y="5715000"/>
            <a:ext cx="6934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1625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72388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143000" y="762120"/>
            <a:ext cx="70866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70866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31520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162920" cy="16257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952880" y="2286000"/>
            <a:ext cx="3048120" cy="21337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838080" y="2286000"/>
            <a:ext cx="4114800" cy="2158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843840" y="4419720"/>
            <a:ext cx="4420440" cy="947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1f1d"/>
                </a:solidFill>
                <a:latin typeface="Times New Roman"/>
              </a:rPr>
              <a:t>CHILD’S MEDICATION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1f1d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ef1f1d"/>
                </a:solidFill>
                <a:latin typeface="Times New Roman"/>
              </a:rPr>
              <a:t>e.g., aspirin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257800" y="4419720"/>
            <a:ext cx="27432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731520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73152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73152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70106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16256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54380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219320" y="2362320"/>
            <a:ext cx="7010280" cy="18288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749680" y="1828800"/>
            <a:ext cx="383364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1f1d"/>
                </a:solidFill>
                <a:latin typeface="Times New Roman"/>
              </a:rPr>
              <a:t>ANOTHER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219320" y="1828800"/>
            <a:ext cx="152388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553080" y="1828800"/>
            <a:ext cx="167652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219320" y="762120"/>
            <a:ext cx="7010280" cy="34290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3276720" y="4114800"/>
            <a:ext cx="281916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739116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74674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5438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3152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0866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43000" y="685800"/>
            <a:ext cx="71629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16292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990720" y="1143000"/>
            <a:ext cx="71625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143000" y="762120"/>
            <a:ext cx="70102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143000" y="838080"/>
            <a:ext cx="70102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1625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16292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219320" y="1905120"/>
            <a:ext cx="701028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90720" y="1371600"/>
            <a:ext cx="716256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708660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30T13:39:54Z</dcterms:created>
  <dc:creator>david g kleinbaum</dc:creator>
  <dc:description/>
  <dc:language>en-US</dc:language>
  <cp:lastModifiedBy>dkleinb</cp:lastModifiedBy>
  <dcterms:modified xsi:type="dcterms:W3CDTF">2003-11-13T17:51:23Z</dcterms:modified>
  <cp:revision>108</cp:revision>
  <dc:subject/>
  <dc:title>The Art in the State of the Art</dc:title>
</cp:coreProperties>
</file>